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9.jpeg" ContentType="image/jpeg"/>
  <Override PartName="/ppt/media/image34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33.png" ContentType="image/png"/>
  <Override PartName="/ppt/media/image20.jpeg" ContentType="image/jpeg"/>
  <Override PartName="/ppt/media/image40.wmf" ContentType="image/x-wmf"/>
  <Override PartName="/ppt/media/image7.jpeg" ContentType="image/jpeg"/>
  <Override PartName="/ppt/media/image28.jpeg" ContentType="image/jpeg"/>
  <Override PartName="/ppt/media/image41.png" ContentType="image/png"/>
  <Override PartName="/ppt/media/image9.png" ContentType="image/png"/>
  <Override PartName="/ppt/media/image42.wmf" ContentType="image/x-wmf"/>
  <Override PartName="/ppt/media/image43.png" ContentType="image/png"/>
  <Override PartName="/ppt/media/image3.wmf" ContentType="image/x-wmf"/>
  <Override PartName="/ppt/media/image36.png" ContentType="image/png"/>
  <Override PartName="/ppt/media/image6.png" ContentType="image/png"/>
  <Override PartName="/ppt/media/image5.wmf" ContentType="image/x-wmf"/>
  <Override PartName="/ppt/media/image35.jpeg" ContentType="image/jpeg"/>
  <Override PartName="/ppt/media/image10.png" ContentType="image/png"/>
  <Override PartName="/ppt/media/image27.jpeg" ContentType="image/jpeg"/>
  <Override PartName="/ppt/media/image4.wmf" ContentType="image/x-wmf"/>
  <Override PartName="/ppt/media/image8.jpeg" ContentType="image/jpeg"/>
  <Override PartName="/ppt/media/image39.jpeg" ContentType="image/jpeg"/>
  <Override PartName="/ppt/media/image38.png" ContentType="image/png"/>
  <Override PartName="/ppt/media/image2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BE85-E98E-444B-BECE-44E9E6458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FB98-925F-4D32-B809-502B119D3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9485-B999-4E5B-ACEE-71D13DD00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FFE9-2668-4E31-9658-7D1476593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FBBA-8440-4FB4-A618-F3FB70260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EC73-9C86-469F-89CC-4C2890054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A3A2-004F-43E1-B553-B976468E5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38BD-6295-477A-98D1-1F2D0EFC2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28CE-B04D-490B-A502-7B924AB52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FB39-0D1A-41EE-A766-85DCED1F6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B079-B651-4016-A74A-1AE6DBBEC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4DFB-56A7-4B14-9A43-B00A4267C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7816-932E-4CA3-B996-50122A8F5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9E30-CF9C-4A1B-86DD-CA4D7BBF2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A0BA-E1A4-4643-B292-E3087ABAA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10F4-5503-400F-901C-87DDE9092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17FB-A1D1-462B-940A-128DA3E33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6BAB-F8CA-47B9-B1DD-A97A8899F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735A-CF20-43F9-9EFC-A965794B7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4BC4-45F2-4276-921F-3A3D7424D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A74D-1499-42B6-8382-E65F11982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E630-CF67-4087-80F2-A5A2FCDA5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BEE7-6E2F-44C2-9FDB-CFC99E7FF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9135-67CB-4202-99DB-984D1DE9B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82FD-5051-4D4E-A977-B283CE294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4F8C-73B5-4FA0-BE85-ECBDF93F0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F088-9889-4EB7-A7FA-37327C11D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9BA9-A269-4EC6-B587-0069A71BE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0DB9-5193-4577-B207-AE066D5E6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11B5-D535-4BF7-8BA8-82369AB4C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5DD-CC94-4065-BF6B-351E9D26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0B17-D17A-40D7-BCC5-052F4FB9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B03-F9C6-497B-AD93-F6848642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3FC7-A00C-4C70-B381-BAA43934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55AE-5CC9-451A-B677-AEF59855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B6D-81CB-4B0C-81D4-0F69E2E0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BA42-F5BF-4B50-B191-39DB21E4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9AD-59DC-489B-8AA4-B944A958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6442-7552-4B98-B179-39F94E42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A88A-8BFE-4678-8B56-7219FF44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B2D-7F50-4D3B-8CB2-9A660DE7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CAA-1487-4924-AE35-6330FFC7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8E0A-FE69-4AF4-BDF3-5ECF1456D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et.org/artstoolkit/" TargetMode="External"/><Relationship Id="rId2" Type="http://schemas.openxmlformats.org/officeDocument/2006/relationships/hyperlink" Target="http://www.ket.org/artstoolkit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issibket.blogspot.com/" TargetMode="External"/><Relationship Id="rId2" Type="http://schemas.openxmlformats.org/officeDocument/2006/relationships/hyperlink" Target="http://www.missibket.wikispaces.com/" TargetMode="External"/><Relationship Id="rId3" Type="http://schemas.openxmlformats.org/officeDocument/2006/relationships/hyperlink" Target="http://cwarnerket.wikidot.com/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et.unitedstream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instein1.wp3.wmv/" TargetMode="External"/><Relationship Id="rId2" Type="http://schemas.openxmlformats.org/officeDocument/2006/relationships/hyperlink" Target="http://Einstein1.wp3.wmv/" TargetMode="External"/><Relationship Id="rId3" Type="http://schemas.openxmlformats.org/officeDocument/2006/relationships/slide" Target="slide19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27.xml"/><Relationship Id="rId7" Type="http://schemas.openxmlformats.org/officeDocument/2006/relationships/slide" Target="slide24.xml"/><Relationship Id="rId8" Type="http://schemas.openxmlformats.org/officeDocument/2006/relationships/slide" Target="slide18.xml"/><Relationship Id="rId9" Type="http://schemas.openxmlformats.org/officeDocument/2006/relationships/slide" Target="slide23.xml"/><Relationship Id="rId10" Type="http://schemas.openxmlformats.org/officeDocument/2006/relationships/slide" Target=""/><Relationship Id="rId11" Type="http://schemas.openxmlformats.org/officeDocument/2006/relationships/hyperlink" Target="http://www.voki.com/" TargetMode="External"/><Relationship Id="rId12" Type="http://schemas.openxmlformats.org/officeDocument/2006/relationships/slide" Target="slide32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ket.org/trips/forest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lmoore@ket.org" TargetMode="External"/><Relationship Id="rId2" Type="http://schemas.openxmlformats.org/officeDocument/2006/relationships/image" Target="../media/image3.wmf"/><Relationship Id="rId3" Type="http://schemas.openxmlformats.org/officeDocument/2006/relationships/hyperlink" Target="http://lmooreketresources.wikispaces.com/" TargetMode="External"/><Relationship Id="rId4" Type="http://schemas.openxmlformats.org/officeDocument/2006/relationships/hyperlink" Target="http://www.slideshare.net/secret/CO4wzEX0rB9AR6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Inspiration%20owl%20web/Bats__The_Only_True_Flying_Mammals.asf" TargetMode="External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image" Target="../media/image30.png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hyperlink" Target="file:///Inspiration%20owl%20web/Bats__The_Only_True_Flying_Mammals.asf" TargetMode="Externa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jpe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ket.org/education/professional/" TargetMode="External"/><Relationship Id="rId5" Type="http://schemas.openxmlformats.org/officeDocument/2006/relationships/image" Target="../media/image12.png"/><Relationship Id="rId6" Type="http://schemas.openxmlformats.org/officeDocument/2006/relationships/hyperlink" Target="http://www.ket.cre8tivegroup.com/rr/" TargetMode="External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et.org/education/professional/" TargetMode="External"/><Relationship Id="rId2" Type="http://schemas.openxmlformats.org/officeDocument/2006/relationships/hyperlink" Target="http://www.literacywithoutlimits.org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et.cre8tivegroup.com/rr/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www.ket.cre8tivegroup.com/rr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et.org/trips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www.ket.org/trip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ncyclomedia-1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14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MPj03167790000[1]"/>
          <p:cNvPicPr/>
          <p:nvPr/>
        </p:nvPicPr>
        <p:blipFill>
          <a:blip r:embed="rId2"/>
          <a:stretch/>
        </p:blipFill>
        <p:spPr>
          <a:xfrm>
            <a:off x="228600" y="1905120"/>
            <a:ext cx="8686800" cy="4724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2"/>
          <p:cNvSpPr/>
          <p:nvPr/>
        </p:nvSpPr>
        <p:spPr>
          <a:xfrm>
            <a:off x="304920" y="5257800"/>
            <a:ext cx="85341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structional Resources at Your Fingertips Through KET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-228600" y="-1676520"/>
            <a:ext cx="8610480" cy="6477120"/>
          </a:xfrm>
          <a:custGeom>
            <a:avLst/>
            <a:gdLst>
              <a:gd name="textAreaLeft" fmla="*/ 419760 w 8610480"/>
              <a:gd name="textAreaRight" fmla="*/ 8190720 w 8610480"/>
              <a:gd name="textAreaTop" fmla="*/ 419760 h 6477120"/>
              <a:gd name="textAreaBottom" fmla="*/ 6057360 h 6477120"/>
            </a:gdLst>
            <a:ahLst/>
            <a:rect l="textAreaLeft" t="textAreaTop" r="textAreaRight" b="textAreaBottom"/>
            <a:pathLst>
              <a:path w="28714" h="21600">
                <a:moveTo>
                  <a:pt x="0" y="0"/>
                </a:moveTo>
                <a:lnTo>
                  <a:pt x="28714" y="0"/>
                </a:lnTo>
                <a:lnTo>
                  <a:pt x="28714" y="21600"/>
                </a:lnTo>
                <a:lnTo>
                  <a:pt x="0" y="21600"/>
                </a:lnTo>
                <a:close/>
              </a:path>
              <a:path fill="lightenLess" w="28714" h="21600">
                <a:moveTo>
                  <a:pt x="0" y="0"/>
                </a:moveTo>
                <a:lnTo>
                  <a:pt x="28714" y="0"/>
                </a:lnTo>
                <a:lnTo>
                  <a:pt x="27314" y="1400"/>
                </a:lnTo>
                <a:lnTo>
                  <a:pt x="1400" y="1400"/>
                </a:lnTo>
                <a:close/>
              </a:path>
              <a:path fill="darken" w="28714" h="21600">
                <a:moveTo>
                  <a:pt x="28714" y="0"/>
                </a:moveTo>
                <a:lnTo>
                  <a:pt x="28714" y="21600"/>
                </a:lnTo>
                <a:lnTo>
                  <a:pt x="27314" y="20200"/>
                </a:lnTo>
                <a:lnTo>
                  <a:pt x="27314" y="1400"/>
                </a:lnTo>
                <a:close/>
              </a:path>
              <a:path fill="darkenLess" w="28714" h="21600">
                <a:moveTo>
                  <a:pt x="28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4" y="20200"/>
                </a:lnTo>
                <a:close/>
              </a:path>
              <a:path fill="lighten" w="28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2209680"/>
            <a:ext cx="89154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wo 15-minute programs – one for grades 3-5 , one for Grades 6-8.   The programs contain: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tual visit to a watershed, showing Kentucky rivers flowing into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larger basins and ultimately, the Gulf of Mexico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fic Kentucky geography including urban and rural settings,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mountains, rivers and streams, karst, sinkholes, and wetlands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s the most common forms of nonpoint (nps) sourc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pollution and what can be done to help eliminat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some of its forms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8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304920" y="76320"/>
            <a:ext cx="8610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Ravie"/>
              </a:rPr>
              <a:t>The Arts Toolkit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5816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ma Toolkit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sed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home_drama"/>
          <p:cNvPicPr/>
          <p:nvPr/>
        </p:nvPicPr>
        <p:blipFill>
          <a:blip r:embed="rId1"/>
          <a:stretch/>
        </p:blipFill>
        <p:spPr>
          <a:xfrm>
            <a:off x="4419720" y="1219320"/>
            <a:ext cx="1962000" cy="1304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home_dance"/>
          <p:cNvPicPr/>
          <p:nvPr/>
        </p:nvPicPr>
        <p:blipFill>
          <a:blip r:embed="rId2"/>
          <a:stretch/>
        </p:blipFill>
        <p:spPr>
          <a:xfrm>
            <a:off x="2514600" y="2590920"/>
            <a:ext cx="1943280" cy="1304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ome_music"/>
          <p:cNvPicPr/>
          <p:nvPr/>
        </p:nvPicPr>
        <p:blipFill>
          <a:blip r:embed="rId3"/>
          <a:stretch/>
        </p:blipFill>
        <p:spPr>
          <a:xfrm>
            <a:off x="2514600" y="5257800"/>
            <a:ext cx="1943280" cy="1305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ome_visarts"/>
          <p:cNvPicPr/>
          <p:nvPr/>
        </p:nvPicPr>
        <p:blipFill>
          <a:blip r:embed="rId4"/>
          <a:stretch/>
        </p:blipFill>
        <p:spPr>
          <a:xfrm>
            <a:off x="4495680" y="3962520"/>
            <a:ext cx="1962360" cy="1304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914400" y="19051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6324480" y="13683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Winner of  NETA’s Instructional Media Product Award and  Best of the Best Award !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553080" y="4137120"/>
            <a:ext cx="25146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Winner of NETA’s Best Instructional Media Product Award 2006!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62120" y="4114800"/>
            <a:ext cx="312408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 Arts Toolkit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(2005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800600" y="2900520"/>
            <a:ext cx="39625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ce Toolkit (2008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dition now available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4952880" y="5486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ic Arts Toolki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007 Now Available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800"/>
                            </p:stCondLst>
                            <p:childTnLst>
                              <p:par>
                                <p:cTn id="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240" y="3048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oolki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 hours of  Video in 3 D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 of Dance and Music  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anded binder of Lesson Plans and Information correlated to 4.1 cor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Po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Idea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s Toolkit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>
            <a:hlinkClick r:id="rId1"/>
          </p:cNvPr>
          <p:cNvSpPr/>
          <p:nvPr/>
        </p:nvSpPr>
        <p:spPr>
          <a:xfrm>
            <a:off x="3886200" y="6014880"/>
            <a:ext cx="5029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ket.org/artstoolkit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3" name="Action Button: Custom 7">
            <a:hlinkClick r:id="rId2"/>
          </p:cNvPr>
          <p:cNvSpPr/>
          <p:nvPr/>
        </p:nvSpPr>
        <p:spPr>
          <a:xfrm>
            <a:off x="3581280" y="5943600"/>
            <a:ext cx="5562720" cy="609480"/>
          </a:xfrm>
          <a:custGeom>
            <a:avLst/>
            <a:gdLst>
              <a:gd name="textAreaLeft" fmla="*/ 39240 w 5562720"/>
              <a:gd name="textAreaRight" fmla="*/ 5523480 w 5562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97039" h="21600">
                <a:moveTo>
                  <a:pt x="0" y="0"/>
                </a:moveTo>
                <a:lnTo>
                  <a:pt x="197039" y="0"/>
                </a:lnTo>
                <a:lnTo>
                  <a:pt x="197039" y="21600"/>
                </a:lnTo>
                <a:lnTo>
                  <a:pt x="0" y="21600"/>
                </a:lnTo>
                <a:close/>
              </a:path>
              <a:path fill="lightenLess" w="197039" h="21600">
                <a:moveTo>
                  <a:pt x="0" y="0"/>
                </a:moveTo>
                <a:lnTo>
                  <a:pt x="197039" y="0"/>
                </a:lnTo>
                <a:lnTo>
                  <a:pt x="195639" y="1400"/>
                </a:lnTo>
                <a:lnTo>
                  <a:pt x="1400" y="1400"/>
                </a:lnTo>
                <a:close/>
              </a:path>
              <a:path fill="darken" w="197039" h="21600">
                <a:moveTo>
                  <a:pt x="197039" y="0"/>
                </a:moveTo>
                <a:lnTo>
                  <a:pt x="197039" y="21600"/>
                </a:lnTo>
                <a:lnTo>
                  <a:pt x="195639" y="20200"/>
                </a:lnTo>
                <a:lnTo>
                  <a:pt x="195639" y="1400"/>
                </a:lnTo>
                <a:close/>
              </a:path>
              <a:path fill="darkenLess" w="197039" h="21600">
                <a:moveTo>
                  <a:pt x="197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639" y="20200"/>
                </a:lnTo>
                <a:close/>
              </a:path>
              <a:path fill="lighten" w="197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28600" y="22093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sed Dance Toolkit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now availabl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Encyclomedia-1"/>
          <p:cNvPicPr/>
          <p:nvPr/>
        </p:nvPicPr>
        <p:blipFill>
          <a:blip r:embed="rId1"/>
          <a:stretch/>
        </p:blipFill>
        <p:spPr>
          <a:xfrm>
            <a:off x="380880" y="228600"/>
            <a:ext cx="7696440" cy="1501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228600" y="2743200"/>
            <a:ext cx="883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5000 videos- 50,000 video segments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(estimated by Jan 2009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155 of KET’s original program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20,000 digital imag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400 songs, 3000 sound effec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40 historic speech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Discovery Atlas Interactive Map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0492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eatures of the servic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2590920"/>
            <a:ext cx="8381880" cy="75960"/>
          </a:xfrm>
          <a:prstGeom prst="rect">
            <a:avLst/>
          </a:prstGeom>
          <a:solidFill>
            <a:srgbClr val="ffdd1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New Features Coming in 2008-09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anded content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er resolutio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granular search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p-level standards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hanced site administration and user-friendly reporting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Encyclomedia-1"/>
          <p:cNvPicPr/>
          <p:nvPr/>
        </p:nvPicPr>
        <p:blipFill>
          <a:blip r:embed="rId1"/>
          <a:stretch/>
        </p:blipFill>
        <p:spPr>
          <a:xfrm>
            <a:off x="762120" y="76320"/>
            <a:ext cx="7467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KET EncycloMedia Integration Si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838080" y="85716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Missi Baker’s sites: www.missibket.blogspot.com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838080" y="2006640"/>
            <a:ext cx="54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www.missibket.wikispaces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6" name="Action Button: Custom 9">
            <a:hlinkClick r:id="rId1"/>
          </p:cNvPr>
          <p:cNvSpPr/>
          <p:nvPr/>
        </p:nvSpPr>
        <p:spPr>
          <a:xfrm>
            <a:off x="762120" y="1981080"/>
            <a:ext cx="5638680" cy="685800"/>
          </a:xfrm>
          <a:custGeom>
            <a:avLst/>
            <a:gdLst>
              <a:gd name="textAreaLeft" fmla="*/ 44280 w 5638680"/>
              <a:gd name="textAreaRight" fmla="*/ 5594400 w 5638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7514" h="21600">
                <a:moveTo>
                  <a:pt x="0" y="0"/>
                </a:moveTo>
                <a:lnTo>
                  <a:pt x="177514" y="0"/>
                </a:lnTo>
                <a:lnTo>
                  <a:pt x="177514" y="21600"/>
                </a:lnTo>
                <a:lnTo>
                  <a:pt x="0" y="21600"/>
                </a:lnTo>
                <a:close/>
              </a:path>
              <a:path fill="lightenLess" w="177514" h="21600">
                <a:moveTo>
                  <a:pt x="0" y="0"/>
                </a:moveTo>
                <a:lnTo>
                  <a:pt x="177514" y="0"/>
                </a:lnTo>
                <a:lnTo>
                  <a:pt x="176114" y="1400"/>
                </a:lnTo>
                <a:lnTo>
                  <a:pt x="1400" y="1400"/>
                </a:lnTo>
                <a:close/>
              </a:path>
              <a:path fill="darken" w="177514" h="21600">
                <a:moveTo>
                  <a:pt x="177514" y="0"/>
                </a:moveTo>
                <a:lnTo>
                  <a:pt x="177514" y="21600"/>
                </a:lnTo>
                <a:lnTo>
                  <a:pt x="176114" y="20200"/>
                </a:lnTo>
                <a:lnTo>
                  <a:pt x="176114" y="1400"/>
                </a:lnTo>
                <a:close/>
              </a:path>
              <a:path fill="darkenLess" w="177514" h="21600">
                <a:moveTo>
                  <a:pt x="1775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6114" y="20200"/>
                </a:lnTo>
                <a:close/>
              </a:path>
              <a:path fill="lighten" w="1775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7" name="Action Button: Custom 10">
            <a:hlinkClick r:id="rId2"/>
          </p:cNvPr>
          <p:cNvSpPr/>
          <p:nvPr/>
        </p:nvSpPr>
        <p:spPr>
          <a:xfrm>
            <a:off x="1447920" y="2743200"/>
            <a:ext cx="5410080" cy="914400"/>
          </a:xfrm>
          <a:custGeom>
            <a:avLst/>
            <a:gdLst>
              <a:gd name="textAreaLeft" fmla="*/ 59040 w 5410080"/>
              <a:gd name="textAreaRight" fmla="*/ 5351040 w 5410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7755" h="21600">
                <a:moveTo>
                  <a:pt x="0" y="0"/>
                </a:moveTo>
                <a:lnTo>
                  <a:pt x="127755" y="0"/>
                </a:lnTo>
                <a:lnTo>
                  <a:pt x="127755" y="21600"/>
                </a:lnTo>
                <a:lnTo>
                  <a:pt x="0" y="21600"/>
                </a:lnTo>
                <a:close/>
              </a:path>
              <a:path fill="lightenLess" w="127755" h="21600">
                <a:moveTo>
                  <a:pt x="0" y="0"/>
                </a:moveTo>
                <a:lnTo>
                  <a:pt x="127755" y="0"/>
                </a:lnTo>
                <a:lnTo>
                  <a:pt x="126355" y="1400"/>
                </a:lnTo>
                <a:lnTo>
                  <a:pt x="1400" y="1400"/>
                </a:lnTo>
                <a:close/>
              </a:path>
              <a:path fill="darken" w="127755" h="21600">
                <a:moveTo>
                  <a:pt x="127755" y="0"/>
                </a:moveTo>
                <a:lnTo>
                  <a:pt x="127755" y="21600"/>
                </a:lnTo>
                <a:lnTo>
                  <a:pt x="126355" y="20200"/>
                </a:lnTo>
                <a:lnTo>
                  <a:pt x="126355" y="1400"/>
                </a:lnTo>
                <a:close/>
              </a:path>
              <a:path fill="darkenLess" w="127755" h="21600">
                <a:moveTo>
                  <a:pt x="127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6355" y="20200"/>
                </a:lnTo>
                <a:close/>
              </a:path>
              <a:path fill="lighten" w="127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838080" y="2743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ynthia Warner’s Wikki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http://cwarnerket.wikidot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9" name="Action Button: Custom 13">
            <a:hlinkClick r:id="rId3"/>
          </p:cNvPr>
          <p:cNvSpPr/>
          <p:nvPr/>
        </p:nvSpPr>
        <p:spPr>
          <a:xfrm>
            <a:off x="685800" y="2819520"/>
            <a:ext cx="5257800" cy="914400"/>
          </a:xfrm>
          <a:custGeom>
            <a:avLst/>
            <a:gdLst>
              <a:gd name="textAreaLeft" fmla="*/ 59040 w 5257800"/>
              <a:gd name="textAreaRight" fmla="*/ 5198760 w 5257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4160" h="21600">
                <a:moveTo>
                  <a:pt x="0" y="0"/>
                </a:moveTo>
                <a:lnTo>
                  <a:pt x="124160" y="0"/>
                </a:lnTo>
                <a:lnTo>
                  <a:pt x="124160" y="21600"/>
                </a:lnTo>
                <a:lnTo>
                  <a:pt x="0" y="21600"/>
                </a:lnTo>
                <a:close/>
              </a:path>
              <a:path fill="lightenLess" w="124160" h="21600">
                <a:moveTo>
                  <a:pt x="0" y="0"/>
                </a:moveTo>
                <a:lnTo>
                  <a:pt x="124160" y="0"/>
                </a:lnTo>
                <a:lnTo>
                  <a:pt x="122760" y="1400"/>
                </a:lnTo>
                <a:lnTo>
                  <a:pt x="1400" y="1400"/>
                </a:lnTo>
                <a:close/>
              </a:path>
              <a:path fill="darken" w="124160" h="21600">
                <a:moveTo>
                  <a:pt x="124160" y="0"/>
                </a:moveTo>
                <a:lnTo>
                  <a:pt x="124160" y="21600"/>
                </a:lnTo>
                <a:lnTo>
                  <a:pt x="122760" y="20200"/>
                </a:lnTo>
                <a:lnTo>
                  <a:pt x="122760" y="1400"/>
                </a:lnTo>
                <a:close/>
              </a:path>
              <a:path fill="darkenLess" w="124160" h="21600">
                <a:moveTo>
                  <a:pt x="124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760" y="20200"/>
                </a:lnTo>
                <a:close/>
              </a:path>
              <a:path fill="lighten" w="124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30" name="Picture 19" descr="C:\Documents and Settings\lmoore\Local Settings\Temporary Internet Files\Content.IE5\2MW80HCS\MPj04393500000[1].jpg"/>
          <p:cNvPicPr/>
          <p:nvPr/>
        </p:nvPicPr>
        <p:blipFill>
          <a:blip r:embed="rId4"/>
          <a:stretch/>
        </p:blipFill>
        <p:spPr>
          <a:xfrm>
            <a:off x="6781680" y="2362320"/>
            <a:ext cx="2084400" cy="220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1"/>
          <p:cNvSpPr/>
          <p:nvPr/>
        </p:nvSpPr>
        <p:spPr>
          <a:xfrm>
            <a:off x="838080" y="412272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My WikiSpaces Address: http://lmooreketresources.wikispaces.com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5"/>
          <p:cNvSpPr/>
          <p:nvPr/>
        </p:nvSpPr>
        <p:spPr>
          <a:xfrm>
            <a:off x="914400" y="1523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as a brand new web address!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ts check it out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33" name="Picture 5" descr="Encyclomedia-1"/>
          <p:cNvPicPr/>
          <p:nvPr/>
        </p:nvPicPr>
        <p:blipFill>
          <a:blip r:embed="rId1"/>
          <a:stretch/>
        </p:blipFill>
        <p:spPr>
          <a:xfrm>
            <a:off x="685800" y="152280"/>
            <a:ext cx="7467480" cy="13716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914400" y="3276720"/>
            <a:ext cx="74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http://ket.unitedstreaming.com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5" name="Action Button: Custom 10">
            <a:hlinkClick r:id="rId2"/>
          </p:cNvPr>
          <p:cNvSpPr/>
          <p:nvPr/>
        </p:nvSpPr>
        <p:spPr>
          <a:xfrm>
            <a:off x="762120" y="3200400"/>
            <a:ext cx="7619760" cy="1219320"/>
          </a:xfrm>
          <a:custGeom>
            <a:avLst/>
            <a:gdLst>
              <a:gd name="textAreaLeft" fmla="*/ 78840 w 7619760"/>
              <a:gd name="textAreaRight" fmla="*/ 7540920 w 76197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34949" h="21600">
                <a:moveTo>
                  <a:pt x="0" y="0"/>
                </a:moveTo>
                <a:lnTo>
                  <a:pt x="134949" y="0"/>
                </a:lnTo>
                <a:lnTo>
                  <a:pt x="134949" y="21600"/>
                </a:lnTo>
                <a:lnTo>
                  <a:pt x="0" y="21600"/>
                </a:lnTo>
                <a:close/>
              </a:path>
              <a:path fill="lightenLess" w="134949" h="21600">
                <a:moveTo>
                  <a:pt x="0" y="0"/>
                </a:moveTo>
                <a:lnTo>
                  <a:pt x="134949" y="0"/>
                </a:lnTo>
                <a:lnTo>
                  <a:pt x="133549" y="1400"/>
                </a:lnTo>
                <a:lnTo>
                  <a:pt x="1400" y="1400"/>
                </a:lnTo>
                <a:close/>
              </a:path>
              <a:path fill="darken" w="134949" h="21600">
                <a:moveTo>
                  <a:pt x="134949" y="0"/>
                </a:moveTo>
                <a:lnTo>
                  <a:pt x="134949" y="21600"/>
                </a:lnTo>
                <a:lnTo>
                  <a:pt x="133549" y="20200"/>
                </a:lnTo>
                <a:lnTo>
                  <a:pt x="133549" y="1400"/>
                </a:lnTo>
                <a:close/>
              </a:path>
              <a:path fill="darkenLess" w="134949" h="21600">
                <a:moveTo>
                  <a:pt x="134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49" y="20200"/>
                </a:lnTo>
                <a:close/>
              </a:path>
              <a:path fill="lighten" w="134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Organization Chart 3"/>
          <p:cNvGrpSpPr/>
          <p:nvPr/>
        </p:nvGrpSpPr>
        <p:grpSpPr>
          <a:xfrm>
            <a:off x="1752480" y="1523880"/>
            <a:ext cx="5562360" cy="2944440"/>
            <a:chOff x="1752480" y="1523880"/>
            <a:chExt cx="5562360" cy="2944440"/>
          </a:xfrm>
        </p:grpSpPr>
        <p:cxnSp>
          <p:nvCxnSpPr>
            <p:cNvPr id="137" name="_s1028"/>
            <p:cNvCxnSpPr>
              <a:stCxn id="138" idx="0"/>
              <a:endCxn id="139" idx="3"/>
            </p:cNvCxnSpPr>
            <p:nvPr/>
          </p:nvCxnSpPr>
          <p:spPr>
            <a:xfrm rot="10800000">
              <a:off x="4533840" y="2260080"/>
              <a:ext cx="397440" cy="73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>
              <a:off x="4137120" y="2260080"/>
              <a:ext cx="397800" cy="73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1"/>
            </p:cNvCxnSpPr>
            <p:nvPr/>
          </p:nvCxnSpPr>
          <p:spPr>
            <a:xfrm flipV="1" rot="16200000">
              <a:off x="4494240" y="2300040"/>
              <a:ext cx="1473120" cy="1393200"/>
            </a:xfrm>
            <a:prstGeom prst="bentConnector3">
              <a:avLst>
                <a:gd name="adj1" fmla="val 774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0"/>
            </p:cNvCxnSpPr>
            <p:nvPr/>
          </p:nvCxnSpPr>
          <p:spPr>
            <a:xfrm flipH="1" flipV="1" rot="5400000">
              <a:off x="3102480" y="2301120"/>
              <a:ext cx="1473120" cy="1391760"/>
            </a:xfrm>
            <a:prstGeom prst="bentConnector3">
              <a:avLst>
                <a:gd name="adj1" fmla="val 774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3341880" y="1523880"/>
              <a:ext cx="2385360" cy="736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/>
                </a:rPr>
                <a:t>PowerPoint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1949400" y="3733200"/>
              <a:ext cx="2386800" cy="735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/>
                </a:rPr>
                <a:t>Inspiration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4732920" y="3733200"/>
              <a:ext cx="2386800" cy="735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3" action="ppaction://hlinksldjump"/>
                </a:rPr>
                <a:t>Word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1752480" y="2629080"/>
              <a:ext cx="2385000" cy="735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Whiteboard, 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(Smartboard e.g.)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4931280" y="2629080"/>
              <a:ext cx="2383560" cy="735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ovieMaker/iMovie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46" name="Line 29"/>
            <p:cNvSpPr/>
            <p:nvPr/>
          </p:nvSpPr>
          <p:spPr>
            <a:xfrm flipV="1">
              <a:off x="5866920" y="4466880"/>
              <a:ext cx="7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ine KET EncycloMedia Resources with a variety of software and technology t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/>
          <p:cNvSpPr/>
          <p:nvPr/>
        </p:nvSpPr>
        <p:spPr>
          <a:xfrm>
            <a:off x="1905120" y="4876920"/>
            <a:ext cx="2361960" cy="685800"/>
          </a:xfrm>
          <a:custGeom>
            <a:avLst/>
            <a:gdLst>
              <a:gd name="textAreaLeft" fmla="*/ 44280 w 2361960"/>
              <a:gd name="textAreaRight" fmla="*/ 2317680 w 2361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65" h="21600">
                <a:moveTo>
                  <a:pt x="0" y="0"/>
                </a:moveTo>
                <a:lnTo>
                  <a:pt x="74365" y="0"/>
                </a:lnTo>
                <a:lnTo>
                  <a:pt x="74365" y="21600"/>
                </a:lnTo>
                <a:lnTo>
                  <a:pt x="0" y="21600"/>
                </a:lnTo>
                <a:close/>
              </a:path>
              <a:path fill="lightenLess" w="74365" h="21600">
                <a:moveTo>
                  <a:pt x="0" y="0"/>
                </a:moveTo>
                <a:lnTo>
                  <a:pt x="74365" y="0"/>
                </a:lnTo>
                <a:lnTo>
                  <a:pt x="72965" y="1400"/>
                </a:lnTo>
                <a:lnTo>
                  <a:pt x="1400" y="1400"/>
                </a:lnTo>
                <a:close/>
              </a:path>
              <a:path fill="darken" w="74365" h="21600">
                <a:moveTo>
                  <a:pt x="74365" y="0"/>
                </a:moveTo>
                <a:lnTo>
                  <a:pt x="74365" y="21600"/>
                </a:lnTo>
                <a:lnTo>
                  <a:pt x="72965" y="20200"/>
                </a:lnTo>
                <a:lnTo>
                  <a:pt x="72965" y="1400"/>
                </a:lnTo>
                <a:close/>
              </a:path>
              <a:path fill="darkenLess" w="74365" h="21600">
                <a:moveTo>
                  <a:pt x="74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65" y="20200"/>
                </a:lnTo>
                <a:close/>
              </a:path>
              <a:path fill="lighten" w="74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057400" y="5181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otoStory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0" name="Action Button: Custom 11">
            <a:hlinkClick r:id="rId4" action="ppaction://hlinksldjump"/>
          </p:cNvPr>
          <p:cNvSpPr/>
          <p:nvPr/>
        </p:nvSpPr>
        <p:spPr>
          <a:xfrm>
            <a:off x="3352680" y="1600200"/>
            <a:ext cx="2286000" cy="60948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0981" h="21600">
                <a:moveTo>
                  <a:pt x="0" y="0"/>
                </a:moveTo>
                <a:lnTo>
                  <a:pt x="80981" y="0"/>
                </a:lnTo>
                <a:lnTo>
                  <a:pt x="80981" y="21600"/>
                </a:lnTo>
                <a:lnTo>
                  <a:pt x="0" y="21600"/>
                </a:lnTo>
                <a:close/>
              </a:path>
              <a:path fill="lightenLess" w="80981" h="21600">
                <a:moveTo>
                  <a:pt x="0" y="0"/>
                </a:moveTo>
                <a:lnTo>
                  <a:pt x="80981" y="0"/>
                </a:lnTo>
                <a:lnTo>
                  <a:pt x="79581" y="1400"/>
                </a:lnTo>
                <a:lnTo>
                  <a:pt x="1400" y="1400"/>
                </a:lnTo>
                <a:close/>
              </a:path>
              <a:path fill="darken" w="80981" h="21600">
                <a:moveTo>
                  <a:pt x="80981" y="0"/>
                </a:moveTo>
                <a:lnTo>
                  <a:pt x="80981" y="21600"/>
                </a:lnTo>
                <a:lnTo>
                  <a:pt x="79581" y="20200"/>
                </a:lnTo>
                <a:lnTo>
                  <a:pt x="79581" y="1400"/>
                </a:lnTo>
                <a:close/>
              </a:path>
              <a:path fill="darkenLess" w="80981" h="21600">
                <a:moveTo>
                  <a:pt x="80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1" y="20200"/>
                </a:lnTo>
                <a:close/>
              </a:path>
              <a:path fill="lighten" w="80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1" name="Action Button: Custom 12">
            <a:hlinkClick r:id="rId5" action="ppaction://hlinksldjump"/>
          </p:cNvPr>
          <p:cNvSpPr/>
          <p:nvPr/>
        </p:nvSpPr>
        <p:spPr>
          <a:xfrm>
            <a:off x="1752480" y="266688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2" name="Action Button: Custom 13">
            <a:hlinkClick r:id="rId6" action="ppaction://hlinksldjump"/>
          </p:cNvPr>
          <p:cNvSpPr/>
          <p:nvPr/>
        </p:nvSpPr>
        <p:spPr>
          <a:xfrm>
            <a:off x="4952880" y="2590920"/>
            <a:ext cx="2286000" cy="761760"/>
          </a:xfrm>
          <a:custGeom>
            <a:avLst/>
            <a:gdLst>
              <a:gd name="textAreaLeft" fmla="*/ 49320 w 2286000"/>
              <a:gd name="textAreaRight" fmla="*/ 2236680 w 2286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3" name="Action Button: Custom 14">
            <a:hlinkClick r:id="rId7" action="ppaction://hlinksldjump"/>
          </p:cNvPr>
          <p:cNvSpPr/>
          <p:nvPr/>
        </p:nvSpPr>
        <p:spPr>
          <a:xfrm>
            <a:off x="1981080" y="3809880"/>
            <a:ext cx="2286000" cy="685800"/>
          </a:xfrm>
          <a:custGeom>
            <a:avLst/>
            <a:gdLst>
              <a:gd name="textAreaLeft" fmla="*/ 44280 w 2286000"/>
              <a:gd name="textAreaRight" fmla="*/ 2241720 w 2286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4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4" y="20200"/>
                </a:lnTo>
                <a:lnTo>
                  <a:pt x="70574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4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4" name="Action Button: Custom 15">
            <a:hlinkClick r:id="rId8" action="ppaction://hlinksldjump"/>
          </p:cNvPr>
          <p:cNvSpPr/>
          <p:nvPr/>
        </p:nvSpPr>
        <p:spPr>
          <a:xfrm>
            <a:off x="4724280" y="373392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5" name="Action Button: Custom 17">
            <a:hlinkClick r:id="rId9" action="ppaction://hlinksldjump"/>
          </p:cNvPr>
          <p:cNvSpPr/>
          <p:nvPr/>
        </p:nvSpPr>
        <p:spPr>
          <a:xfrm>
            <a:off x="1981080" y="4952880"/>
            <a:ext cx="2286000" cy="60984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0933" h="21600">
                <a:moveTo>
                  <a:pt x="0" y="0"/>
                </a:moveTo>
                <a:lnTo>
                  <a:pt x="80933" y="0"/>
                </a:lnTo>
                <a:lnTo>
                  <a:pt x="80933" y="21600"/>
                </a:lnTo>
                <a:lnTo>
                  <a:pt x="0" y="21600"/>
                </a:lnTo>
                <a:close/>
              </a:path>
              <a:path fill="lightenLess" w="80933" h="21600">
                <a:moveTo>
                  <a:pt x="0" y="0"/>
                </a:moveTo>
                <a:lnTo>
                  <a:pt x="80933" y="0"/>
                </a:lnTo>
                <a:lnTo>
                  <a:pt x="79533" y="1400"/>
                </a:lnTo>
                <a:lnTo>
                  <a:pt x="1400" y="1400"/>
                </a:lnTo>
                <a:close/>
              </a:path>
              <a:path fill="darken" w="80933" h="21600">
                <a:moveTo>
                  <a:pt x="80933" y="0"/>
                </a:moveTo>
                <a:lnTo>
                  <a:pt x="80933" y="21600"/>
                </a:lnTo>
                <a:lnTo>
                  <a:pt x="79533" y="20200"/>
                </a:lnTo>
                <a:lnTo>
                  <a:pt x="79533" y="1400"/>
                </a:lnTo>
                <a:close/>
              </a:path>
              <a:path fill="darkenLess" w="80933" h="21600">
                <a:moveTo>
                  <a:pt x="80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33" y="20200"/>
                </a:lnTo>
                <a:close/>
              </a:path>
              <a:path fill="lighten" w="80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6" name="AutoShape 20"/>
          <p:cNvSpPr/>
          <p:nvPr/>
        </p:nvSpPr>
        <p:spPr>
          <a:xfrm>
            <a:off x="4724280" y="48769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7" name="TextBox 19"/>
          <p:cNvSpPr/>
          <p:nvPr/>
        </p:nvSpPr>
        <p:spPr>
          <a:xfrm>
            <a:off x="4952880" y="5181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oiceThread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8" name="Action Button: Custom 20">
            <a:hlinkClick r:id="rId10" action="ppaction://hlinksldjump"/>
          </p:cNvPr>
          <p:cNvSpPr/>
          <p:nvPr/>
        </p:nvSpPr>
        <p:spPr>
          <a:xfrm>
            <a:off x="4800600" y="48769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9" name="Straight Connector 22"/>
          <p:cNvSpPr/>
          <p:nvPr/>
        </p:nvSpPr>
        <p:spPr>
          <a:xfrm>
            <a:off x="3124080" y="4724280"/>
            <a:ext cx="2819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0" name="Straight Connector 29"/>
          <p:cNvSpPr/>
          <p:nvPr/>
        </p:nvSpPr>
        <p:spPr>
          <a:xfrm flipV="1">
            <a:off x="4572000" y="3583080"/>
            <a:ext cx="0" cy="114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1" name="Straight Connector 32"/>
          <p:cNvSpPr/>
          <p:nvPr/>
        </p:nvSpPr>
        <p:spPr>
          <a:xfrm flipH="1">
            <a:off x="3122280" y="4724280"/>
            <a:ext cx="324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2" name="Straight Connector 33"/>
          <p:cNvSpPr/>
          <p:nvPr/>
        </p:nvSpPr>
        <p:spPr>
          <a:xfrm flipH="1">
            <a:off x="5943600" y="4724280"/>
            <a:ext cx="144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3" name="Rectangle 23">
            <a:hlinkClick r:id="rId11"/>
          </p:cNvPr>
          <p:cNvSpPr/>
          <p:nvPr/>
        </p:nvSpPr>
        <p:spPr>
          <a:xfrm>
            <a:off x="1905120" y="5791320"/>
            <a:ext cx="23619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4" name="Straight Connector 27"/>
          <p:cNvSpPr/>
          <p:nvPr/>
        </p:nvSpPr>
        <p:spPr>
          <a:xfrm flipH="1">
            <a:off x="4572000" y="3659040"/>
            <a:ext cx="1440" cy="243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4800600" y="5791320"/>
            <a:ext cx="23623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6" name="Straight Connector 28"/>
          <p:cNvSpPr/>
          <p:nvPr/>
        </p:nvSpPr>
        <p:spPr>
          <a:xfrm>
            <a:off x="4267080" y="6134040"/>
            <a:ext cx="533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7" name="TextBox 30"/>
          <p:cNvSpPr/>
          <p:nvPr/>
        </p:nvSpPr>
        <p:spPr>
          <a:xfrm>
            <a:off x="4952880" y="5791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ignment and Quiz Build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8" name="Rectangle 41"/>
          <p:cNvSpPr/>
          <p:nvPr/>
        </p:nvSpPr>
        <p:spPr>
          <a:xfrm>
            <a:off x="1981080" y="5867280"/>
            <a:ext cx="2210040" cy="5335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9" name="Rectangle 42"/>
          <p:cNvSpPr/>
          <p:nvPr/>
        </p:nvSpPr>
        <p:spPr>
          <a:xfrm>
            <a:off x="4876920" y="5867280"/>
            <a:ext cx="2133360" cy="6098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0" name="TextBox 26"/>
          <p:cNvSpPr/>
          <p:nvPr/>
        </p:nvSpPr>
        <p:spPr>
          <a:xfrm>
            <a:off x="1981080" y="5867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ogleEarth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1" name="Action Button: Custom 31">
            <a:hlinkClick r:id="rId12" action="ppaction://hlinksldjump"/>
          </p:cNvPr>
          <p:cNvSpPr/>
          <p:nvPr/>
        </p:nvSpPr>
        <p:spPr>
          <a:xfrm>
            <a:off x="1981080" y="5867280"/>
            <a:ext cx="2286000" cy="60984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0933" h="21600">
                <a:moveTo>
                  <a:pt x="0" y="0"/>
                </a:moveTo>
                <a:lnTo>
                  <a:pt x="80933" y="0"/>
                </a:lnTo>
                <a:lnTo>
                  <a:pt x="80933" y="21600"/>
                </a:lnTo>
                <a:lnTo>
                  <a:pt x="0" y="21600"/>
                </a:lnTo>
                <a:close/>
              </a:path>
              <a:path fill="lightenLess" w="80933" h="21600">
                <a:moveTo>
                  <a:pt x="0" y="0"/>
                </a:moveTo>
                <a:lnTo>
                  <a:pt x="80933" y="0"/>
                </a:lnTo>
                <a:lnTo>
                  <a:pt x="79533" y="1400"/>
                </a:lnTo>
                <a:lnTo>
                  <a:pt x="1400" y="1400"/>
                </a:lnTo>
                <a:close/>
              </a:path>
              <a:path fill="darken" w="80933" h="21600">
                <a:moveTo>
                  <a:pt x="80933" y="0"/>
                </a:moveTo>
                <a:lnTo>
                  <a:pt x="80933" y="21600"/>
                </a:lnTo>
                <a:lnTo>
                  <a:pt x="79533" y="20200"/>
                </a:lnTo>
                <a:lnTo>
                  <a:pt x="79533" y="1400"/>
                </a:lnTo>
                <a:close/>
              </a:path>
              <a:path fill="darkenLess" w="80933" h="21600">
                <a:moveTo>
                  <a:pt x="80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33" y="20200"/>
                </a:lnTo>
                <a:close/>
              </a:path>
              <a:path fill="lighten" w="80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corporating KEM Resources into Microsof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>
            <a:hlinkClick r:id="rId1" action="ppaction://hlinksldjump"/>
          </p:cNvPr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4" name="imgMain" descr="D9C38901-F45C-DCBE-F7801D547AAAF4AC"/>
          <p:cNvPicPr/>
          <p:nvPr/>
        </p:nvPicPr>
        <p:blipFill>
          <a:blip r:embed="rId2"/>
          <a:stretch/>
        </p:blipFill>
        <p:spPr>
          <a:xfrm>
            <a:off x="228600" y="1447920"/>
            <a:ext cx="4084560" cy="27432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533520" y="4292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Baskerville Old Face"/>
              </a:rPr>
              <a:t>Butterfly Quiz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6" name="Picture 7" descr="pengins.jpg"/>
          <p:cNvPicPr/>
          <p:nvPr/>
        </p:nvPicPr>
        <p:blipFill>
          <a:blip r:embed="rId3"/>
          <a:stretch/>
        </p:blipFill>
        <p:spPr>
          <a:xfrm>
            <a:off x="4510080" y="1447920"/>
            <a:ext cx="4100400" cy="27684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8"/>
          <p:cNvSpPr/>
          <p:nvPr/>
        </p:nvSpPr>
        <p:spPr>
          <a:xfrm>
            <a:off x="4648320" y="434340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Baskerville Old Face"/>
              </a:rPr>
              <a:t>Learning about Penguin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6"/>
          <p:cNvSpPr/>
          <p:nvPr/>
        </p:nvSpPr>
        <p:spPr>
          <a:xfrm>
            <a:off x="1981080" y="58672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askerville Old Face"/>
              </a:rPr>
              <a:t>http://www.ket.org/trips/forest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9" name="Action Button: Custom 8">
            <a:hlinkClick r:id="rId1"/>
          </p:cNvPr>
          <p:cNvSpPr/>
          <p:nvPr/>
        </p:nvSpPr>
        <p:spPr>
          <a:xfrm>
            <a:off x="1828800" y="5791320"/>
            <a:ext cx="5410080" cy="685800"/>
          </a:xfrm>
          <a:custGeom>
            <a:avLst/>
            <a:gdLst>
              <a:gd name="textAreaLeft" fmla="*/ 44280 w 5410080"/>
              <a:gd name="textAreaRight" fmla="*/ 5365800 w 5410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0318" h="21600">
                <a:moveTo>
                  <a:pt x="0" y="0"/>
                </a:moveTo>
                <a:lnTo>
                  <a:pt x="170318" y="0"/>
                </a:lnTo>
                <a:lnTo>
                  <a:pt x="170318" y="21600"/>
                </a:lnTo>
                <a:lnTo>
                  <a:pt x="0" y="21600"/>
                </a:lnTo>
                <a:close/>
              </a:path>
              <a:path fill="lightenLess" w="170318" h="21600">
                <a:moveTo>
                  <a:pt x="0" y="0"/>
                </a:moveTo>
                <a:lnTo>
                  <a:pt x="170318" y="0"/>
                </a:lnTo>
                <a:lnTo>
                  <a:pt x="168918" y="1400"/>
                </a:lnTo>
                <a:lnTo>
                  <a:pt x="1400" y="1400"/>
                </a:lnTo>
                <a:close/>
              </a:path>
              <a:path fill="darken" w="170318" h="21600">
                <a:moveTo>
                  <a:pt x="170318" y="0"/>
                </a:moveTo>
                <a:lnTo>
                  <a:pt x="170318" y="21600"/>
                </a:lnTo>
                <a:lnTo>
                  <a:pt x="168918" y="20200"/>
                </a:lnTo>
                <a:lnTo>
                  <a:pt x="168918" y="1400"/>
                </a:lnTo>
                <a:close/>
              </a:path>
              <a:path fill="darkenLess" w="170318" h="21600">
                <a:moveTo>
                  <a:pt x="170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918" y="20200"/>
                </a:lnTo>
                <a:close/>
              </a:path>
              <a:path fill="lighten" w="170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0" y="3142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xample Of HyperLinking In Environmental Scienc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1" name="Picture 9" descr="cows.jpg"/>
          <p:cNvPicPr/>
          <p:nvPr/>
        </p:nvPicPr>
        <p:blipFill>
          <a:blip r:embed="rId2"/>
          <a:stretch/>
        </p:blipFill>
        <p:spPr>
          <a:xfrm>
            <a:off x="304920" y="1295280"/>
            <a:ext cx="3809880" cy="30038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0"/>
          <p:cNvSpPr/>
          <p:nvPr/>
        </p:nvSpPr>
        <p:spPr>
          <a:xfrm>
            <a:off x="304920" y="4495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thBusters Young Scientist’s Challeng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5141880" y="449568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rning About Plant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4" name="Picture 9" descr="plant with pistil indicated.jpg"/>
          <p:cNvPicPr/>
          <p:nvPr/>
        </p:nvPicPr>
        <p:blipFill>
          <a:blip r:embed="rId3"/>
          <a:stretch/>
        </p:blipFill>
        <p:spPr>
          <a:xfrm>
            <a:off x="4343400" y="129528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Your Presenter today i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4920" y="1066680"/>
            <a:ext cx="7391160" cy="78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rry Moore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Education Consultant,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rth Central Region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gional Office # (502) 875-9002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oice Mail: (800) 432-0951, ext. 7264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-Mai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moore@ket.or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4" name="Picture 4" descr="MCPE01923_0000[1]"/>
          <p:cNvPicPr/>
          <p:nvPr/>
        </p:nvPicPr>
        <p:blipFill>
          <a:blip r:embed="rId2"/>
          <a:stretch/>
        </p:blipFill>
        <p:spPr>
          <a:xfrm>
            <a:off x="6867360" y="4419720"/>
            <a:ext cx="2276640" cy="14475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304920" y="47242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 WikiSpaces Address: http://lmooreketresources.wikispaces.com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6" name="Action Button: Custom 5">
            <a:hlinkClick r:id="rId3"/>
          </p:cNvPr>
          <p:cNvSpPr/>
          <p:nvPr/>
        </p:nvSpPr>
        <p:spPr>
          <a:xfrm>
            <a:off x="762120" y="3352680"/>
            <a:ext cx="6400800" cy="1067040"/>
          </a:xfrm>
          <a:custGeom>
            <a:avLst/>
            <a:gdLst>
              <a:gd name="textAreaLeft" fmla="*/ 69120 w 6400800"/>
              <a:gd name="textAreaRight" fmla="*/ 6331680 w 64008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129534" h="21600">
                <a:moveTo>
                  <a:pt x="0" y="0"/>
                </a:moveTo>
                <a:lnTo>
                  <a:pt x="129534" y="0"/>
                </a:lnTo>
                <a:lnTo>
                  <a:pt x="129534" y="21600"/>
                </a:lnTo>
                <a:lnTo>
                  <a:pt x="0" y="21600"/>
                </a:lnTo>
                <a:close/>
              </a:path>
              <a:path fill="lightenLess" w="129534" h="21600">
                <a:moveTo>
                  <a:pt x="0" y="0"/>
                </a:moveTo>
                <a:lnTo>
                  <a:pt x="129534" y="0"/>
                </a:lnTo>
                <a:lnTo>
                  <a:pt x="128134" y="1400"/>
                </a:lnTo>
                <a:lnTo>
                  <a:pt x="1400" y="1400"/>
                </a:lnTo>
                <a:close/>
              </a:path>
              <a:path fill="darken" w="129534" h="21600">
                <a:moveTo>
                  <a:pt x="129534" y="0"/>
                </a:moveTo>
                <a:lnTo>
                  <a:pt x="129534" y="21600"/>
                </a:lnTo>
                <a:lnTo>
                  <a:pt x="128134" y="20200"/>
                </a:lnTo>
                <a:lnTo>
                  <a:pt x="128134" y="1400"/>
                </a:lnTo>
                <a:close/>
              </a:path>
              <a:path fill="darkenLess" w="129534" h="21600">
                <a:moveTo>
                  <a:pt x="129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4" y="20200"/>
                </a:lnTo>
                <a:close/>
              </a:path>
              <a:path fill="lighten" w="129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80880" y="6105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lideshare.net/secret/CO4wzEX0rB9AR6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80880" y="5638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lideshare Secret Code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6"/>
          <p:cNvSpPr/>
          <p:nvPr/>
        </p:nvSpPr>
        <p:spPr>
          <a:xfrm>
            <a:off x="22860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Instructions for Hyperlinking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04920" y="1066680"/>
            <a:ext cx="784836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load a video segment to a designated folder that also contains your Powerpoint, Inspiration, etc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have an object to serve as your “trigger”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button to click to link to the desired clip. This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 can be a text box, image,clip art, o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 button. Right click on this object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drop-down menu, select “hyperlink”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“Insert Hyperlink” window, locate the clip or file to which you want to link. You may have to browse some to find it. Double click on the file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“OK” when finished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7" name="Picture 15" descr="block_exterior.jpg"/>
          <p:cNvPicPr/>
          <p:nvPr/>
        </p:nvPicPr>
        <p:blipFill>
          <a:blip r:embed="rId1"/>
          <a:stretch/>
        </p:blipFill>
        <p:spPr>
          <a:xfrm>
            <a:off x="6858000" y="4952880"/>
            <a:ext cx="2057400" cy="13716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5">
            <a:hlinkClick r:id="rId2" action="ppaction://hlinksldjump"/>
          </p:cNvPr>
          <p:cNvSpPr/>
          <p:nvPr/>
        </p:nvSpPr>
        <p:spPr>
          <a:xfrm>
            <a:off x="685800" y="56386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Imbedded Video Clip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2388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is a Citizen?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91" name="Who is a citizen.asx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structions for Embedding In PowerPoin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04920" y="838080"/>
            <a:ext cx="8610480" cy="67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a video segment to a folder that also contains your PowerPoint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the slide where you want to embed the cli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toolbar go to Insert and select “Movies and Sounds”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 “Movie from File” and when the “Insert Movie” window opens, browse to find the desired clip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Double click on the clip and it will place a “movie screen” on your slide and ask “How do you want this Movie to start?” with options “Automatically” or “When Clicked”. Choose the desired option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 Using the “handles” on the embedded movie screen you can move and resize your clip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4" name="AutoShape 5">
            <a:hlinkClick r:id="rId1" action="ppaction://hlinksldjump"/>
          </p:cNvPr>
          <p:cNvSpPr/>
          <p:nvPr/>
        </p:nvSpPr>
        <p:spPr>
          <a:xfrm>
            <a:off x="8381880" y="60199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7301" y="12337"/>
                </a:moveTo>
                <a:lnTo>
                  <a:pt x="17806" y="5330"/>
                </a:lnTo>
                <a:lnTo>
                  <a:pt x="17806" y="1934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5456" y="5330"/>
                </a:lnTo>
                <a:lnTo>
                  <a:pt x="5456" y="19343"/>
                </a:lnTo>
                <a:lnTo>
                  <a:pt x="3794" y="193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EncycloMedia With PhotoStory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3" name="AutoShape 11">
            <a:hlinkClick r:id="rId1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4" name="AutoShape 12">
            <a:hlinkClick r:id="rId2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5" name="AutoShape 13">
            <a:hlinkClick r:id="rId3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0" name="AutoShape 18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2209680" y="2514600"/>
            <a:ext cx="6400800" cy="838080"/>
          </a:xfrm>
          <a:custGeom>
            <a:avLst/>
            <a:gdLst>
              <a:gd name="textAreaLeft" fmla="*/ 54000 w 6400800"/>
              <a:gd name="textAreaRight" fmla="*/ 6346800 w 6400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4908" h="21600">
                <a:moveTo>
                  <a:pt x="0" y="0"/>
                </a:moveTo>
                <a:lnTo>
                  <a:pt x="164908" y="0"/>
                </a:lnTo>
                <a:lnTo>
                  <a:pt x="164908" y="21600"/>
                </a:lnTo>
                <a:lnTo>
                  <a:pt x="0" y="21600"/>
                </a:lnTo>
                <a:close/>
              </a:path>
              <a:path fill="lightenLess" w="164908" h="21600">
                <a:moveTo>
                  <a:pt x="0" y="0"/>
                </a:moveTo>
                <a:lnTo>
                  <a:pt x="164908" y="0"/>
                </a:lnTo>
                <a:lnTo>
                  <a:pt x="163508" y="1400"/>
                </a:lnTo>
                <a:lnTo>
                  <a:pt x="1400" y="1400"/>
                </a:lnTo>
                <a:close/>
              </a:path>
              <a:path fill="darken" w="164908" h="21600">
                <a:moveTo>
                  <a:pt x="164908" y="0"/>
                </a:moveTo>
                <a:lnTo>
                  <a:pt x="164908" y="21600"/>
                </a:lnTo>
                <a:lnTo>
                  <a:pt x="163508" y="20200"/>
                </a:lnTo>
                <a:lnTo>
                  <a:pt x="163508" y="1400"/>
                </a:lnTo>
                <a:close/>
              </a:path>
              <a:path fill="darkenLess" w="164908" h="21600">
                <a:moveTo>
                  <a:pt x="1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508" y="20200"/>
                </a:lnTo>
                <a:close/>
              </a:path>
              <a:path fill="lighten" w="1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048120" y="6172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he Rock Cycl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13" name="LM sedimentary rock.wmv" descr=""/>
          <p:cNvPicPr/>
          <p:nvPr/>
        </p:nvPicPr>
        <p:blipFill>
          <a:blip r:embed="rId4"/>
          <a:stretch/>
        </p:blipFill>
        <p:spPr>
          <a:xfrm>
            <a:off x="914400" y="7621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5">
            <a:hlinkClick r:id="rId5" action="ppaction://hlinksldjump"/>
          </p:cNvPr>
          <p:cNvSpPr/>
          <p:nvPr/>
        </p:nvSpPr>
        <p:spPr>
          <a:xfrm>
            <a:off x="83059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7301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  <a:path fill="darken" w="21600" h="24690">
                <a:moveTo>
                  <a:pt x="3794" y="5338"/>
                </a:moveTo>
                <a:lnTo>
                  <a:pt x="5456" y="5338"/>
                </a:lnTo>
                <a:lnTo>
                  <a:pt x="5456" y="19351"/>
                </a:lnTo>
                <a:lnTo>
                  <a:pt x="3794" y="193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EncycloMedia With Inspiration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22" name="Picture 12" descr=""/>
          <p:cNvPicPr/>
          <p:nvPr/>
        </p:nvPicPr>
        <p:blipFill>
          <a:blip r:embed="rId1"/>
          <a:stretch/>
        </p:blipFill>
        <p:spPr>
          <a:xfrm>
            <a:off x="0" y="961920"/>
            <a:ext cx="9163080" cy="58960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13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4" name="AutoShape 14">
            <a:hlinkClick r:id="rId2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5" name="AutoShape 15">
            <a:hlinkClick r:id="rId3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6" name="AutoShape 16">
            <a:hlinkClick r:id="rId4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7" name="AutoShape 17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8" name="AutoShape 18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9" name="AutoShape 19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1" name="AutoShape 21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2" name="AutoShape 5">
            <a:hlinkClick r:id="rId5" action="ppaction://hlinksldjump"/>
          </p:cNvPr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457200" y="1522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Examples of Original Productions Using EncycloMedia Conten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838080" y="56786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 is a short movie created using “MovieMaker” which incorporates Encyclomedia Clips and images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35" name="Picture 7" descr="6152"/>
          <p:cNvPicPr/>
          <p:nvPr/>
        </p:nvPicPr>
        <p:blipFill>
          <a:blip r:embed="rId1"/>
          <a:stretch/>
        </p:blipFill>
        <p:spPr>
          <a:xfrm>
            <a:off x="2057400" y="1447920"/>
            <a:ext cx="4419720" cy="393228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5"/>
          <p:cNvSpPr/>
          <p:nvPr/>
        </p:nvSpPr>
        <p:spPr>
          <a:xfrm>
            <a:off x="8305920" y="54100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7301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  <a:path fill="darken" w="21600" h="24704">
                <a:moveTo>
                  <a:pt x="3794" y="5346"/>
                </a:moveTo>
                <a:lnTo>
                  <a:pt x="5456" y="5346"/>
                </a:lnTo>
                <a:lnTo>
                  <a:pt x="5456" y="19359"/>
                </a:lnTo>
                <a:lnTo>
                  <a:pt x="3794" y="1935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5867280" y="2133720"/>
            <a:ext cx="914400" cy="53316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What Can be Used from Encylomedia </a:t>
            </a:r>
            <a:br>
              <a:rPr sz="32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n Your MovieMaker produc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ideo segments with the  Edit 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St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und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ngs (these are for elementary gr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indows 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ame 7"/>
          <p:cNvSpPr/>
          <p:nvPr/>
        </p:nvSpPr>
        <p:spPr>
          <a:xfrm>
            <a:off x="0" y="0"/>
            <a:ext cx="9144000" cy="1676520"/>
          </a:xfrm>
          <a:prstGeom prst="pie">
            <a:avLst/>
          </a:prstGeom>
          <a:solidFill>
            <a:srgbClr val="808080"/>
          </a:solidFill>
          <a:ln w="1260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152280" y="209520"/>
            <a:ext cx="2133720" cy="131436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4089240" y="11304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quired Equipment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amera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omputer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4089240" y="11304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quired Equipment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amera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omputer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76320" y="1801800"/>
            <a:ext cx="8839080" cy="38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quired Equipment: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DV or hard drive digital video camera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 that supports a digital video connection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XP with Movie Maker version 2.1 or high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.Link port (also known as FireWire or IEEE 1394) on your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ommended accessories for computer: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 disk driv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VD burner with writeable DVD media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phone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crophon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indows 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ame 7"/>
          <p:cNvSpPr/>
          <p:nvPr/>
        </p:nvSpPr>
        <p:spPr>
          <a:xfrm>
            <a:off x="0" y="0"/>
            <a:ext cx="9144000" cy="1676520"/>
          </a:xfrm>
          <a:prstGeom prst="pie">
            <a:avLst/>
          </a:prstGeom>
          <a:solidFill>
            <a:srgbClr val="808080"/>
          </a:solidFill>
          <a:ln w="1260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152280" y="209520"/>
            <a:ext cx="2133720" cy="13143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4089240" y="11304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quired Equipment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amera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omputer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4089240" y="11304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quired Equipment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amera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omputer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2971800" y="27432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aking video from your camera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video file from EncycloMedia or other sourc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importing still photo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importing sound file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76320" y="1676520"/>
            <a:ext cx="2819160" cy="5137200"/>
          </a:xfrm>
          <a:prstGeom prst="rect">
            <a:avLst/>
          </a:prstGeom>
          <a:ln w="0">
            <a:noFill/>
          </a:ln>
        </p:spPr>
      </p:pic>
      <p:cxnSp>
        <p:nvCxnSpPr>
          <p:cNvPr id="253" name="Straight Arrow Connector 12"/>
          <p:cNvCxnSpPr/>
          <p:nvPr/>
        </p:nvCxnSpPr>
        <p:spPr>
          <a:xfrm>
            <a:off x="1980720" y="3048120"/>
            <a:ext cx="83916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4" name="Straight Arrow Connector 15"/>
          <p:cNvCxnSpPr/>
          <p:nvPr/>
        </p:nvCxnSpPr>
        <p:spPr>
          <a:xfrm>
            <a:off x="1371600" y="3200400"/>
            <a:ext cx="137232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5" name="Straight Arrow Connector 17"/>
          <p:cNvCxnSpPr/>
          <p:nvPr/>
        </p:nvCxnSpPr>
        <p:spPr>
          <a:xfrm>
            <a:off x="1295280" y="3427560"/>
            <a:ext cx="144864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6" name="Straight Arrow Connector 19"/>
          <p:cNvCxnSpPr/>
          <p:nvPr/>
        </p:nvCxnSpPr>
        <p:spPr>
          <a:xfrm>
            <a:off x="1599840" y="4191120"/>
            <a:ext cx="106740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7" name="TextBox 20"/>
          <p:cNvSpPr/>
          <p:nvPr/>
        </p:nvSpPr>
        <p:spPr>
          <a:xfrm>
            <a:off x="2971800" y="3992400"/>
            <a:ext cx="6172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llections do not store resources just “point” to them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ffects change the look of the video, ex. film grain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itions are digital effects that “connect” segments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s and credits create print graphics at beginning and end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ically creates a movie based on the selected clips or collection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</p:txBody>
      </p:sp>
      <p:cxnSp>
        <p:nvCxnSpPr>
          <p:cNvPr id="258" name="Straight Arrow Connector 21"/>
          <p:cNvCxnSpPr/>
          <p:nvPr/>
        </p:nvCxnSpPr>
        <p:spPr>
          <a:xfrm>
            <a:off x="1828800" y="3580920"/>
            <a:ext cx="91512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9" name="Straight Arrow Connector 23"/>
          <p:cNvCxnSpPr/>
          <p:nvPr/>
        </p:nvCxnSpPr>
        <p:spPr>
          <a:xfrm>
            <a:off x="1599840" y="4343400"/>
            <a:ext cx="106740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0" name="Straight Arrow Connector 24"/>
          <p:cNvCxnSpPr/>
          <p:nvPr/>
        </p:nvCxnSpPr>
        <p:spPr>
          <a:xfrm>
            <a:off x="1676160" y="4572000"/>
            <a:ext cx="99108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1" name="Straight Arrow Connector 26"/>
          <p:cNvCxnSpPr/>
          <p:nvPr/>
        </p:nvCxnSpPr>
        <p:spPr>
          <a:xfrm>
            <a:off x="1676160" y="4723920"/>
            <a:ext cx="9910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2" name="Straight Arrow Connector 27"/>
          <p:cNvCxnSpPr/>
          <p:nvPr/>
        </p:nvCxnSpPr>
        <p:spPr>
          <a:xfrm>
            <a:off x="1676160" y="4952520"/>
            <a:ext cx="9910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image1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grpSp>
        <p:nvGrpSpPr>
          <p:cNvPr id="264" name="Group 3"/>
          <p:cNvGrpSpPr/>
          <p:nvPr/>
        </p:nvGrpSpPr>
        <p:grpSpPr>
          <a:xfrm>
            <a:off x="4343400" y="4475160"/>
            <a:ext cx="1447200" cy="477360"/>
            <a:chOff x="4343400" y="4475160"/>
            <a:chExt cx="1447200" cy="477360"/>
          </a:xfrm>
        </p:grpSpPr>
        <p:sp>
          <p:nvSpPr>
            <p:cNvPr id="265" name="Text Box 4"/>
            <p:cNvSpPr/>
            <p:nvPr/>
          </p:nvSpPr>
          <p:spPr>
            <a:xfrm>
              <a:off x="4472640" y="4475160"/>
              <a:ext cx="1317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aturn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66" name="Picture 5" descr="fileLink"/>
            <p:cNvPicPr/>
            <p:nvPr/>
          </p:nvPicPr>
          <p:blipFill>
            <a:blip r:embed="rId2"/>
            <a:stretch/>
          </p:blipFill>
          <p:spPr>
            <a:xfrm>
              <a:off x="4343400" y="4787280"/>
              <a:ext cx="205560" cy="1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oup 6"/>
          <p:cNvGrpSpPr/>
          <p:nvPr/>
        </p:nvGrpSpPr>
        <p:grpSpPr>
          <a:xfrm>
            <a:off x="6203880" y="3789360"/>
            <a:ext cx="1491840" cy="477360"/>
            <a:chOff x="6203880" y="3789360"/>
            <a:chExt cx="1491840" cy="477360"/>
          </a:xfrm>
        </p:grpSpPr>
        <p:sp>
          <p:nvSpPr>
            <p:cNvPr id="268" name="Text Box 7"/>
            <p:cNvSpPr/>
            <p:nvPr/>
          </p:nvSpPr>
          <p:spPr>
            <a:xfrm>
              <a:off x="6333120" y="3789360"/>
              <a:ext cx="1362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upiter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69" name="Picture 8" descr="fileLink(1)"/>
            <p:cNvPicPr/>
            <p:nvPr/>
          </p:nvPicPr>
          <p:blipFill>
            <a:blip r:embed="rId3"/>
            <a:stretch/>
          </p:blipFill>
          <p:spPr>
            <a:xfrm>
              <a:off x="6203880" y="4101480"/>
              <a:ext cx="205560" cy="1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Group 9"/>
          <p:cNvGrpSpPr/>
          <p:nvPr/>
        </p:nvGrpSpPr>
        <p:grpSpPr>
          <a:xfrm>
            <a:off x="2476440" y="1506600"/>
            <a:ext cx="1332720" cy="474120"/>
            <a:chOff x="2476440" y="1506600"/>
            <a:chExt cx="1332720" cy="474120"/>
          </a:xfrm>
        </p:grpSpPr>
        <p:sp>
          <p:nvSpPr>
            <p:cNvPr id="271" name="Text Box 10"/>
            <p:cNvSpPr/>
            <p:nvPr/>
          </p:nvSpPr>
          <p:spPr>
            <a:xfrm>
              <a:off x="2605680" y="1506600"/>
              <a:ext cx="1203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ars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72" name="Picture 11" descr="fileLink(2)"/>
            <p:cNvPicPr/>
            <p:nvPr/>
          </p:nvPicPr>
          <p:blipFill>
            <a:blip r:embed="rId4"/>
            <a:stretch/>
          </p:blipFill>
          <p:spPr>
            <a:xfrm>
              <a:off x="2476440" y="1815840"/>
              <a:ext cx="205560" cy="16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3" name="Picture 12" descr="space station"/>
          <p:cNvPicPr/>
          <p:nvPr/>
        </p:nvPicPr>
        <p:blipFill>
          <a:blip r:embed="rId5"/>
          <a:stretch/>
        </p:blipFill>
        <p:spPr>
          <a:xfrm>
            <a:off x="914400" y="2552760"/>
            <a:ext cx="1917720" cy="118116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3"/>
          <p:cNvGrpSpPr/>
          <p:nvPr/>
        </p:nvGrpSpPr>
        <p:grpSpPr>
          <a:xfrm>
            <a:off x="838080" y="3370320"/>
            <a:ext cx="1836360" cy="439200"/>
            <a:chOff x="838080" y="3370320"/>
            <a:chExt cx="1836360" cy="439200"/>
          </a:xfrm>
        </p:grpSpPr>
        <p:sp>
          <p:nvSpPr>
            <p:cNvPr id="275" name="Text Box 14"/>
            <p:cNvSpPr/>
            <p:nvPr/>
          </p:nvSpPr>
          <p:spPr>
            <a:xfrm>
              <a:off x="967680" y="3370320"/>
              <a:ext cx="170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pace station.asx</a:t>
              </a:r>
              <a:endParaRPr b="0" lang="en-US" sz="14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76" name="Picture 15" descr="fileLink(3)"/>
            <p:cNvPicPr/>
            <p:nvPr/>
          </p:nvPicPr>
          <p:blipFill>
            <a:blip r:embed="rId6"/>
            <a:stretch/>
          </p:blipFill>
          <p:spPr>
            <a:xfrm>
              <a:off x="838080" y="3644640"/>
              <a:ext cx="205920" cy="16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Line 16"/>
          <p:cNvSpPr/>
          <p:nvPr/>
        </p:nvSpPr>
        <p:spPr>
          <a:xfrm flipV="1">
            <a:off x="2971800" y="2437920"/>
            <a:ext cx="868320" cy="825480"/>
          </a:xfrm>
          <a:prstGeom prst="line">
            <a:avLst/>
          </a:prstGeom>
          <a:ln w="76320">
            <a:solidFill>
              <a:srgbClr val="ffffe0"/>
            </a:solidFill>
            <a:miter/>
            <a:headEnd len="sm" type="triangle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8" name="Text Box 17"/>
          <p:cNvSpPr/>
          <p:nvPr/>
        </p:nvSpPr>
        <p:spPr>
          <a:xfrm>
            <a:off x="5638680" y="8683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0"/>
                </a:solidFill>
                <a:latin typeface="Arial"/>
              </a:rPr>
              <a:t>Space Exploration and Planets</a:t>
            </a:r>
            <a:r>
              <a:rPr b="1" lang="en-US" sz="1400" spc="-1" strike="noStrike">
                <a:solidFill>
                  <a:srgbClr val="ffffe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KET EncycloMedia with Whiteboard Interfac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KET Educational Services Provided to Kentucky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structional Videos on the KET ED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T Encyclo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fessional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lectronic Field Trips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ts Toolk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anc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acher’s Guides &amp; print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j02810840000[1]"/>
          <p:cNvPicPr/>
          <p:nvPr/>
        </p:nvPicPr>
        <p:blipFill>
          <a:blip r:embed="rId1"/>
          <a:stretch/>
        </p:blipFill>
        <p:spPr>
          <a:xfrm>
            <a:off x="7162920" y="4038480"/>
            <a:ext cx="1734840" cy="253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MCj02335950000[1]"/>
          <p:cNvPicPr/>
          <p:nvPr/>
        </p:nvPicPr>
        <p:blipFill>
          <a:blip r:embed="rId2"/>
          <a:stretch/>
        </p:blipFill>
        <p:spPr>
          <a:xfrm>
            <a:off x="7086600" y="3962520"/>
            <a:ext cx="1371600" cy="13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82" name="TextBox 2"/>
          <p:cNvSpPr/>
          <p:nvPr/>
        </p:nvSpPr>
        <p:spPr>
          <a:xfrm>
            <a:off x="304920" y="85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EncycloMedia Content With VoiceThread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3" name="Action Button: Custom 3"/>
          <p:cNvSpPr/>
          <p:nvPr/>
        </p:nvSpPr>
        <p:spPr>
          <a:xfrm>
            <a:off x="304920" y="0"/>
            <a:ext cx="8381880" cy="685800"/>
          </a:xfrm>
          <a:custGeom>
            <a:avLst/>
            <a:gdLst>
              <a:gd name="textAreaLeft" fmla="*/ 44280 w 8381880"/>
              <a:gd name="textAreaRight" fmla="*/ 8337600 w 8381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869" h="21600">
                <a:moveTo>
                  <a:pt x="0" y="0"/>
                </a:moveTo>
                <a:lnTo>
                  <a:pt x="263869" y="0"/>
                </a:lnTo>
                <a:lnTo>
                  <a:pt x="263869" y="21600"/>
                </a:lnTo>
                <a:lnTo>
                  <a:pt x="0" y="21600"/>
                </a:lnTo>
                <a:close/>
              </a:path>
              <a:path fill="lightenLess" w="263869" h="21600">
                <a:moveTo>
                  <a:pt x="0" y="0"/>
                </a:moveTo>
                <a:lnTo>
                  <a:pt x="263869" y="0"/>
                </a:lnTo>
                <a:lnTo>
                  <a:pt x="262469" y="1400"/>
                </a:lnTo>
                <a:lnTo>
                  <a:pt x="1400" y="1400"/>
                </a:lnTo>
                <a:close/>
              </a:path>
              <a:path fill="darken" w="263869" h="21600">
                <a:moveTo>
                  <a:pt x="263869" y="0"/>
                </a:moveTo>
                <a:lnTo>
                  <a:pt x="263869" y="21600"/>
                </a:lnTo>
                <a:lnTo>
                  <a:pt x="262469" y="20200"/>
                </a:lnTo>
                <a:lnTo>
                  <a:pt x="262469" y="1400"/>
                </a:lnTo>
                <a:close/>
              </a:path>
              <a:path fill="darkenLess" w="263869" h="21600">
                <a:moveTo>
                  <a:pt x="26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69" y="20200"/>
                </a:lnTo>
                <a:close/>
              </a:path>
              <a:path fill="lighten" w="26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ive Use Of Video Learning Objects in Your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ng Instructional Video (ITV) into Your Less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295280" y="3195720"/>
            <a:ext cx="617220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e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media needs based on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e, PREVIEW,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wnloa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 less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e objective to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view activity to introduc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ruction using me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t-viewing activity for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llow-up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5" descr="MCj02335950000[1]"/>
          <p:cNvPicPr/>
          <p:nvPr/>
        </p:nvPicPr>
        <p:blipFill>
          <a:blip r:embed="rId1"/>
          <a:stretch/>
        </p:blipFill>
        <p:spPr>
          <a:xfrm>
            <a:off x="7315200" y="0"/>
            <a:ext cx="16192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sure students know what you expect them to learn from the media.  What are they responsible for?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them to learn by using 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activity to connect to pri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 a graphic organiz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to help them record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analyze information the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see in 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923120" y="304920"/>
            <a:ext cx="54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e-viewing Activity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93" name="Picture 4" descr="MCPE02106_0000[1]"/>
          <p:cNvPicPr/>
          <p:nvPr/>
        </p:nvPicPr>
        <p:blipFill>
          <a:blip r:embed="rId1"/>
          <a:stretch/>
        </p:blipFill>
        <p:spPr>
          <a:xfrm>
            <a:off x="5905440" y="4064040"/>
            <a:ext cx="316224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ile viewing the med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turn off all the lights if possi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with your students. (model the desired behav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power of your media player to use the media intera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“Thumbs up” technique, graphic organizers, etc.  for interactiv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6248520" y="4808520"/>
            <a:ext cx="281916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st-View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914040" y="12189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-up the media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th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tudents accountable for th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media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 the learning and involve oth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modalities through kinesthetic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immers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MCj02167380000[1]"/>
          <p:cNvPicPr/>
          <p:nvPr/>
        </p:nvPicPr>
        <p:blipFill>
          <a:blip r:embed="rId1"/>
          <a:stretch/>
        </p:blipFill>
        <p:spPr>
          <a:xfrm>
            <a:off x="7010280" y="5226120"/>
            <a:ext cx="213372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levision Goes to School: The Impact of Video on Student Learning in Formal Education (Jan 2004). Provided by the Education Department Corporation for Public Broadcasting created by EDC’s Center for Children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gow, F. R. (1997). Don’t turn off the lights! Tip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assroom use of ITV. Insighters Educ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ul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ger, J.L. &amp; Singer, D.G. (1983) Implications of child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vision viewing for cogni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agination, and emotion. In J. Bryant and D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erson, (Eds.) (1983)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ildren’s Understanding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levision: Research on atten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rehension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York: Academic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rdner, H. (1999.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telligence reframed: Mu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telligences for the 21st century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York: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rdner, H. (1993)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ultiple intelligences: The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nter for International Education/University of Wisconsin- Created:  May 17, 2001- Updated: 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right © 2005- Robert J. Beck, Ph.D- All rights reserv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scovery Education for access to KET EncycloMedia cl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may use this PowerPoint in whole or in part but please cite KET as the sourc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e957"/>
                </a:solidFill>
                <a:uFillTx/>
                <a:latin typeface="Arial"/>
              </a:rPr>
              <a:t>Using Video Learning Objects in the Classroo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57200" y="31240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18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280" y="1106640"/>
            <a:ext cx="8839440" cy="53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1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Introduce new units, topics and concepts.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Address core content needs  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  across the curriculum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Use to</a:t>
            </a:r>
            <a:r>
              <a:rPr b="1" lang="en-US" sz="32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show peoples’ emotions and internal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   dialogue to create student empathy with 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   characters in practical living scenario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Appeals to school age viewer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   through pacing, young actors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   narrators, and effect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66" name="Picture 5" descr="The image “file:///C:/Documents%20and%20Settings/lmoore/My%20Documents/My%20Pictures/MVC-001S.JPG” cannot be displayed, because it contains errors."/>
          <p:cNvPicPr/>
          <p:nvPr/>
        </p:nvPicPr>
        <p:blipFill>
          <a:blip r:embed="rId5"/>
          <a:stretch/>
        </p:blipFill>
        <p:spPr>
          <a:xfrm>
            <a:off x="5867280" y="44956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5867280" y="4495680"/>
            <a:ext cx="2971800" cy="2210040"/>
          </a:xfrm>
          <a:prstGeom prst="rect">
            <a:avLst/>
          </a:prstGeom>
          <a:noFill/>
          <a:ln w="5724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4560" y="12193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Brings the outside world into the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classroom such as field trips/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Demonstrates abstract concepts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and  processes visually through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a variety of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Caters to Gardner’s Multiple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Intelligences in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Can be used to differentiate instruction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for individual students or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Can be manipulated by the students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to make it thei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380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0948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e957"/>
                </a:solidFill>
                <a:uFillTx/>
                <a:latin typeface="Arial"/>
              </a:rPr>
              <a:t>Video Learning Objects in the Classroom 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1" name="Picture 5" descr="MPj03997530000[1]"/>
          <p:cNvPicPr/>
          <p:nvPr/>
        </p:nvPicPr>
        <p:blipFill>
          <a:blip r:embed="rId1"/>
          <a:stretch/>
        </p:blipFill>
        <p:spPr>
          <a:xfrm>
            <a:off x="6781680" y="1143000"/>
            <a:ext cx="2186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0" y="1371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Professional Development Offering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6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0" y="2057400"/>
            <a:ext cx="1889280" cy="4800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"/>
          <p:cNvPicPr/>
          <p:nvPr/>
        </p:nvPicPr>
        <p:blipFill>
          <a:blip r:embed="rId3"/>
          <a:stretch/>
        </p:blipFill>
        <p:spPr>
          <a:xfrm>
            <a:off x="5638680" y="4386240"/>
            <a:ext cx="3200400" cy="17096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2971800" y="6248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18"/>
                </a:solidFill>
                <a:latin typeface="Arial"/>
              </a:rPr>
              <a:t>www.ket.org/education/professional/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7" name="Action Button: Custom 19">
            <a:hlinkClick r:id="rId4"/>
          </p:cNvPr>
          <p:cNvSpPr/>
          <p:nvPr/>
        </p:nvSpPr>
        <p:spPr>
          <a:xfrm>
            <a:off x="2895480" y="6248520"/>
            <a:ext cx="4724640" cy="457200"/>
          </a:xfrm>
          <a:custGeom>
            <a:avLst/>
            <a:gdLst>
              <a:gd name="textAreaLeft" fmla="*/ 29520 w 4724640"/>
              <a:gd name="textAreaRight" fmla="*/ 4695120 w 4724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3053" h="21600">
                <a:moveTo>
                  <a:pt x="0" y="0"/>
                </a:moveTo>
                <a:lnTo>
                  <a:pt x="223053" y="0"/>
                </a:lnTo>
                <a:lnTo>
                  <a:pt x="223053" y="21600"/>
                </a:lnTo>
                <a:lnTo>
                  <a:pt x="0" y="21600"/>
                </a:lnTo>
                <a:close/>
              </a:path>
              <a:path fill="lightenLess" w="223053" h="21600">
                <a:moveTo>
                  <a:pt x="0" y="0"/>
                </a:moveTo>
                <a:lnTo>
                  <a:pt x="223053" y="0"/>
                </a:lnTo>
                <a:lnTo>
                  <a:pt x="221653" y="1400"/>
                </a:lnTo>
                <a:lnTo>
                  <a:pt x="1400" y="1400"/>
                </a:lnTo>
                <a:close/>
              </a:path>
              <a:path fill="darken" w="223053" h="21600">
                <a:moveTo>
                  <a:pt x="223053" y="0"/>
                </a:moveTo>
                <a:lnTo>
                  <a:pt x="223053" y="21600"/>
                </a:lnTo>
                <a:lnTo>
                  <a:pt x="221653" y="20200"/>
                </a:lnTo>
                <a:lnTo>
                  <a:pt x="221653" y="1400"/>
                </a:lnTo>
                <a:close/>
              </a:path>
              <a:path fill="darkenLess" w="223053" h="21600">
                <a:moveTo>
                  <a:pt x="223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53" y="20200"/>
                </a:lnTo>
                <a:close/>
              </a:path>
              <a:path fill="lighten" w="223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5"/>
          <a:stretch/>
        </p:blipFill>
        <p:spPr>
          <a:xfrm>
            <a:off x="2225520" y="4419720"/>
            <a:ext cx="3184560" cy="1676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33920" y="2133720"/>
            <a:ext cx="3330360" cy="17524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9"/>
          <p:cNvSpPr/>
          <p:nvPr/>
        </p:nvSpPr>
        <p:spPr>
          <a:xfrm>
            <a:off x="0" y="1295280"/>
            <a:ext cx="9144000" cy="762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3657600" y="38862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ndropstorivers.org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04920" y="15228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teracy Without Limi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3" name="AutoShape 14">
            <a:hlinkClick r:id="rId1"/>
          </p:cNvPr>
          <p:cNvSpPr/>
          <p:nvPr/>
        </p:nvSpPr>
        <p:spPr>
          <a:xfrm>
            <a:off x="5715000" y="0"/>
            <a:ext cx="762120" cy="47242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4724280"/>
              <a:gd name="textAreaBottom" fmla="*/ 4674960 h 4724280"/>
            </a:gdLst>
            <a:ahLst/>
            <a:rect l="textAreaLeft" t="textAreaTop" r="textAreaRight" b="textAreaBottom"/>
            <a:pathLst>
              <a:path w="21600" h="133842">
                <a:moveTo>
                  <a:pt x="0" y="0"/>
                </a:moveTo>
                <a:lnTo>
                  <a:pt x="21600" y="0"/>
                </a:lnTo>
                <a:lnTo>
                  <a:pt x="21600" y="133842"/>
                </a:lnTo>
                <a:lnTo>
                  <a:pt x="0" y="133842"/>
                </a:lnTo>
                <a:close/>
              </a:path>
              <a:path fill="lightenLess" w="21600" h="1338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33842">
                <a:moveTo>
                  <a:pt x="21600" y="0"/>
                </a:moveTo>
                <a:lnTo>
                  <a:pt x="21600" y="133842"/>
                </a:lnTo>
                <a:lnTo>
                  <a:pt x="20200" y="132443"/>
                </a:lnTo>
                <a:lnTo>
                  <a:pt x="20200" y="1400"/>
                </a:lnTo>
                <a:close/>
              </a:path>
              <a:path fill="darkenLess" w="21600" h="133842">
                <a:moveTo>
                  <a:pt x="21600" y="133842"/>
                </a:moveTo>
                <a:lnTo>
                  <a:pt x="0" y="133842"/>
                </a:lnTo>
                <a:lnTo>
                  <a:pt x="1400" y="132443"/>
                </a:lnTo>
                <a:lnTo>
                  <a:pt x="20200" y="132443"/>
                </a:lnTo>
                <a:close/>
              </a:path>
              <a:path fill="lighten" w="21600" h="133842">
                <a:moveTo>
                  <a:pt x="0" y="133842"/>
                </a:moveTo>
                <a:lnTo>
                  <a:pt x="0" y="0"/>
                </a:lnTo>
                <a:lnTo>
                  <a:pt x="1400" y="1400"/>
                </a:lnTo>
                <a:lnTo>
                  <a:pt x="1400" y="13244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84" name="Picture 1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2590920" y="1077840"/>
            <a:ext cx="4343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literacywithoutlimits.org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6" name="Left Arrow 5"/>
          <p:cNvSpPr/>
          <p:nvPr/>
        </p:nvSpPr>
        <p:spPr>
          <a:xfrm>
            <a:off x="2133720" y="114300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0" y="3886200"/>
            <a:ext cx="91440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ed on a CD-ROM and the web, this PD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 content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ed in the Electronic Field Trip to a Watershed with models of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mplary instruction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atures Kentucky teachers demonstrating scientific study as well as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awareness and prevention of non point source water pollution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ws teachers and students engaged in authentic activities, in both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oor and outdoor classrooms and at streams, creeks, and other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ersheds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2057400" y="33526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aindropstorivers.or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0" name="Action Button: Custom 7">
            <a:hlinkClick r:id="rId3"/>
          </p:cNvPr>
          <p:cNvSpPr/>
          <p:nvPr/>
        </p:nvSpPr>
        <p:spPr>
          <a:xfrm>
            <a:off x="2133720" y="3429000"/>
            <a:ext cx="4343400" cy="609480"/>
          </a:xfrm>
          <a:custGeom>
            <a:avLst/>
            <a:gdLst>
              <a:gd name="textAreaLeft" fmla="*/ 39240 w 4343400"/>
              <a:gd name="textAreaRight" fmla="*/ 4304160 w 4343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53852" h="21600">
                <a:moveTo>
                  <a:pt x="0" y="0"/>
                </a:moveTo>
                <a:lnTo>
                  <a:pt x="153852" y="0"/>
                </a:lnTo>
                <a:lnTo>
                  <a:pt x="153852" y="21600"/>
                </a:lnTo>
                <a:lnTo>
                  <a:pt x="0" y="21600"/>
                </a:lnTo>
                <a:close/>
              </a:path>
              <a:path fill="lightenLess" w="153852" h="21600">
                <a:moveTo>
                  <a:pt x="0" y="0"/>
                </a:moveTo>
                <a:lnTo>
                  <a:pt x="153852" y="0"/>
                </a:lnTo>
                <a:lnTo>
                  <a:pt x="152452" y="1400"/>
                </a:lnTo>
                <a:lnTo>
                  <a:pt x="1400" y="1400"/>
                </a:lnTo>
                <a:close/>
              </a:path>
              <a:path fill="darken" w="153852" h="21600">
                <a:moveTo>
                  <a:pt x="153852" y="0"/>
                </a:moveTo>
                <a:lnTo>
                  <a:pt x="153852" y="21600"/>
                </a:lnTo>
                <a:lnTo>
                  <a:pt x="152452" y="20200"/>
                </a:lnTo>
                <a:lnTo>
                  <a:pt x="152452" y="1400"/>
                </a:lnTo>
                <a:close/>
              </a:path>
              <a:path fill="darkenLess" w="153852" h="21600">
                <a:moveTo>
                  <a:pt x="1538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2452" y="20200"/>
                </a:lnTo>
                <a:close/>
              </a:path>
              <a:path fill="lighten" w="1538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Field Trip to a Water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lls of the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mmoth C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uisville Zo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FT'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57200"/>
            <a:ext cx="7696440" cy="17985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6320" y="22860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se are the field trips produced by KET that have Environmental Science Content!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143000" y="61214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www.ket.org/trip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5" name="Action Button: Custom 6">
            <a:hlinkClick r:id="rId3"/>
          </p:cNvPr>
          <p:cNvSpPr/>
          <p:nvPr/>
        </p:nvSpPr>
        <p:spPr>
          <a:xfrm>
            <a:off x="2590920" y="6095880"/>
            <a:ext cx="3733560" cy="533520"/>
          </a:xfrm>
          <a:custGeom>
            <a:avLst/>
            <a:gdLst>
              <a:gd name="textAreaLeft" fmla="*/ 34560 w 3733560"/>
              <a:gd name="textAreaRight" fmla="*/ 3699000 w 37335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51069" h="21600">
                <a:moveTo>
                  <a:pt x="0" y="0"/>
                </a:moveTo>
                <a:lnTo>
                  <a:pt x="151069" y="0"/>
                </a:lnTo>
                <a:lnTo>
                  <a:pt x="151069" y="21600"/>
                </a:lnTo>
                <a:lnTo>
                  <a:pt x="0" y="21600"/>
                </a:lnTo>
                <a:close/>
              </a:path>
              <a:path fill="lightenLess" w="151069" h="21600">
                <a:moveTo>
                  <a:pt x="0" y="0"/>
                </a:moveTo>
                <a:lnTo>
                  <a:pt x="151069" y="0"/>
                </a:lnTo>
                <a:lnTo>
                  <a:pt x="149669" y="1400"/>
                </a:lnTo>
                <a:lnTo>
                  <a:pt x="1400" y="1400"/>
                </a:lnTo>
                <a:close/>
              </a:path>
              <a:path fill="darken" w="151069" h="21600">
                <a:moveTo>
                  <a:pt x="151069" y="0"/>
                </a:moveTo>
                <a:lnTo>
                  <a:pt x="151069" y="21600"/>
                </a:lnTo>
                <a:lnTo>
                  <a:pt x="149669" y="20200"/>
                </a:lnTo>
                <a:lnTo>
                  <a:pt x="149669" y="1400"/>
                </a:lnTo>
                <a:close/>
              </a:path>
              <a:path fill="darkenLess" w="151069" h="21600">
                <a:moveTo>
                  <a:pt x="151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669" y="20200"/>
                </a:lnTo>
                <a:close/>
              </a:path>
              <a:path fill="lighten" w="151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moore</cp:lastModifiedBy>
  <dcterms:modified xsi:type="dcterms:W3CDTF">2008-10-24T13:24:35Z</dcterms:modified>
  <cp:revision>205</cp:revision>
  <dc:subject/>
  <dc:title>Slide 1</dc:title>
</cp:coreProperties>
</file>